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16.png" ContentType="image/png"/>
  <Override PartName="/ppt/media/image15.jpeg" ContentType="image/jpeg"/>
  <Override PartName="/ppt/media/image1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8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06CB-2F25-4B66-9989-CA5C447B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76C7-8DBF-4681-9EFC-8B25805D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DDF0-88F8-4065-86E9-9A1D2BC8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A8E5-8871-4C64-A36F-C1A9C35E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4C67-B2D9-4B04-A72B-C3EF0A74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FCC3-5A26-4A09-BDB8-7F3E0AD7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CB99-9A23-49B0-9A8B-142E1130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128F-37A5-4F65-AF6B-A4B85E85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6777-A446-4AB7-BD7B-4A928651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0084-BC4A-4561-8947-75B56F1C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58FD-F16D-4D58-A11B-0AF8F0B0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C0A7-4E81-4641-998C-F83916C4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D02B-6C12-48E4-8FD3-1A37A5C6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1FBB-84A6-4AB3-A584-0E6EB0C4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94A9-4A5F-4F08-B3D6-10FB4C53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ABEC-30AD-401F-A6CC-30774D23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AF47-A2C3-4B4F-9EC0-4C7B2534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2DF3F-DAF7-4114-B0F7-139C4884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1A3B7-20CF-47DF-83CD-5A8CF07A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1314D-FE02-43B5-925B-307C326D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ED5AF-3913-4C9D-9907-CE9452E9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74917-20F4-465D-910F-AB9537B8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A30E-9369-430F-88A8-78F78317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20B46-7FCC-4E21-9D74-A37443A5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F2972-83F6-4C3B-BFE8-E3BC30CB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5989F-5612-4236-BA0D-D33ADCC3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AE5D3-635B-4B35-BDBA-D5F85D54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2946D-9BB0-4823-840C-C8B0CD23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592F9-51C5-44B8-B487-05061EF4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E0390-363A-4F0F-952C-A82E6439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E37AB-F2FB-493F-B65F-16247793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AAA6C-B612-4707-8314-74CD64F7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17E9D-C47E-406A-B968-08576147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027D-9D8B-4FB1-8AAE-42691241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3C579-D54D-41C5-AE6E-D8C3A091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6C5D0-EAA9-4F6C-B88D-2C42DF83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E9DCC-FF2C-4A5A-8BD3-09DC16E0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D665B-78D8-4041-BB69-06CB8A1F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47CA3-ADF7-440E-AD2D-41BC015B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A3169-AF9B-404A-81AE-A73F3A54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44C27-6885-4135-87A6-EE1AC4B7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9FF5B-0275-4A34-ADD4-8E410322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9C190-F3F3-48F5-87B2-FDEFCA12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90699-B48C-457D-8734-6FC05E4F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9687-D29C-456F-B2E0-EBAC5E12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42672-EDC9-4088-B370-8FF0470E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36160-22CF-446A-A7DC-74A8BB3A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86276-21FD-43FC-A241-F2427BEF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C35F5-25D5-48F8-A674-09D19C2C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C6A28-F932-42AD-8684-918020DF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13F2A-F555-44A0-897D-1554A81F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1C1D1-6A6C-4FBB-A044-8EAF6E67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A90E4-0492-4692-ACCE-07813D5C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1440B-94E7-4BE0-9FF4-4A83588B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1381F-9492-41BF-81A3-21C42389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76D9-7EEB-4844-9668-209B8236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9607F-A7A3-4C7E-83DC-23A19D82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B59B1-29E4-4F3B-B07E-353EFEF9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1F9D5-687F-46BC-A81A-F85401A0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2D147-6E68-4CCA-AAE1-0AC08F7B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98443-B29E-4407-8682-54D91477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AC781-F909-4A93-9FB4-1467D159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39493-77CB-4140-9E05-55FF64B3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0E5F8-AAE5-4732-AE0A-00742AFA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BAA5D-B9DD-46F8-9781-1F10BF02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945E9-58DE-4250-8D0B-1BE6B740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9AD5-4402-4A70-B89D-920E89F2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BA872-F9AF-43AC-A48A-0E04211A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4E971-D566-45F1-9664-CD7D669E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30FCE-2DA5-4FCD-8670-62F1131A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99F9D-E464-446D-A093-78B4A705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52601-86FF-4DD8-8472-A4F84A82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30797-6768-4C98-9427-87A2D348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6C199-988C-42C0-8B7C-70BB5572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E34D7-640F-46B1-8464-EA92EFFE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07ED7-0BC0-46C8-9849-F3683EE6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CF875-D764-40F1-AA17-34E34FB1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D6A1-ADAF-4C69-A716-B7BA7DE0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F165B-AD05-4142-B5B7-30EB7C22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9D165-BF1D-4D23-B3C0-8B2CD3F6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14E0E-8575-4ABD-81A9-2C24F2FC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D4F6E-9877-4D9E-93F6-338BCB81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DA37D-50D8-42A0-AB0F-9B0EC6A5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2178-C421-475C-B287-75CC0E1F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B981-652A-4A54-A222-7A2621CBE383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AB2F-CD7C-42BA-8BC7-CD7809DCBEA8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F7F8-2FB4-4CD9-8924-04ECE1E8C6C8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E344-6B57-48D2-B961-5605E10AD988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9141-3F90-4163-92AF-C596F95B67F2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D856-E067-4FAF-B10D-8281E3101CB5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9e3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6ec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F8C9-0CB1-412D-9ECD-75DBC060D052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15.jpeg"/><Relationship Id="rId10" Type="http://schemas.openxmlformats.org/officeDocument/2006/relationships/image" Target="../media/image16.png"/><Relationship Id="rId11" Type="http://schemas.openxmlformats.org/officeDocument/2006/relationships/image" Target="../media/image17.wmf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53143"/>
                </a:solidFill>
                <a:latin typeface="Cooper Black"/>
              </a:rPr>
              <a:t>Challenge 5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7fd13b"/>
                </a:solidFill>
                <a:latin typeface="Cooper Black"/>
              </a:rPr>
              <a:t>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7fd13b"/>
              </a:solidFill>
              <a:latin typeface="Cooper Black"/>
              <a:ea typeface="Cooper Black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. LaRosa  http://www.middleschoolscience.com  for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322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addc"/>
                </a:solidFill>
                <a:latin typeface="Cooper Black"/>
              </a:rPr>
              <a:t>Equipment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addc"/>
              </a:solidFill>
              <a:latin typeface="Cooper Black"/>
              <a:ea typeface="Cooper Black"/>
            </a:endParaRPr>
          </a:p>
        </p:txBody>
      </p:sp>
      <p:pic>
        <p:nvPicPr>
          <p:cNvPr id="323" name="Picture 7" descr="C:\Documents and Settings\Liz\Local Settings\Temporary Internet Files\Content.IE5\MB5MZXEX\MCj04110470000[1].wmf"/>
          <p:cNvPicPr/>
          <p:nvPr/>
        </p:nvPicPr>
        <p:blipFill>
          <a:blip r:embed="rId2"/>
          <a:stretch/>
        </p:blipFill>
        <p:spPr>
          <a:xfrm>
            <a:off x="533520" y="3429000"/>
            <a:ext cx="26668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720" y="182160"/>
            <a:ext cx="78674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5a74"/>
                </a:solidFill>
                <a:latin typeface="Gill Sans MT"/>
              </a:rPr>
              <a:t>Briefly describe how you would use these objects to heat the contents of a test tube. </a:t>
            </a:r>
            <a:endParaRPr b="0" lang="en-US" sz="32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25" name="Picture 12" descr=""/>
          <p:cNvPicPr/>
          <p:nvPr/>
        </p:nvPicPr>
        <p:blipFill>
          <a:blip r:embed="rId1"/>
          <a:stretch/>
        </p:blipFill>
        <p:spPr>
          <a:xfrm>
            <a:off x="3581280" y="3733920"/>
            <a:ext cx="3429000" cy="2496960"/>
          </a:xfrm>
          <a:prstGeom prst="rect">
            <a:avLst/>
          </a:prstGeom>
          <a:ln w="0">
            <a:noFill/>
          </a:ln>
        </p:spPr>
      </p:pic>
      <p:pic>
        <p:nvPicPr>
          <p:cNvPr id="326" name="Rectangle 12" descr=""/>
          <p:cNvPicPr/>
          <p:nvPr/>
        </p:nvPicPr>
        <p:blipFill>
          <a:blip r:embed="rId2"/>
          <a:stretch/>
        </p:blipFill>
        <p:spPr>
          <a:xfrm>
            <a:off x="1700280" y="3164040"/>
            <a:ext cx="969840" cy="828360"/>
          </a:xfrm>
          <a:prstGeom prst="rect">
            <a:avLst/>
          </a:prstGeom>
          <a:ln w="0">
            <a:noFill/>
          </a:ln>
        </p:spPr>
      </p:pic>
      <p:pic>
        <p:nvPicPr>
          <p:cNvPr id="327" name="Rectangle 13" descr=""/>
          <p:cNvPicPr/>
          <p:nvPr/>
        </p:nvPicPr>
        <p:blipFill>
          <a:blip r:embed="rId3"/>
          <a:stretch/>
        </p:blipFill>
        <p:spPr>
          <a:xfrm>
            <a:off x="4505400" y="2938320"/>
            <a:ext cx="987480" cy="822600"/>
          </a:xfrm>
          <a:prstGeom prst="rect">
            <a:avLst/>
          </a:prstGeom>
          <a:ln w="0">
            <a:noFill/>
          </a:ln>
        </p:spPr>
      </p:pic>
      <p:pic>
        <p:nvPicPr>
          <p:cNvPr id="328" name="Rectangle 14" descr=""/>
          <p:cNvPicPr/>
          <p:nvPr/>
        </p:nvPicPr>
        <p:blipFill>
          <a:blip r:embed="rId4"/>
          <a:stretch/>
        </p:blipFill>
        <p:spPr>
          <a:xfrm>
            <a:off x="6943680" y="2706840"/>
            <a:ext cx="987480" cy="828360"/>
          </a:xfrm>
          <a:prstGeom prst="rect">
            <a:avLst/>
          </a:prstGeom>
          <a:ln w="0">
            <a:noFill/>
          </a:ln>
        </p:spPr>
      </p:pic>
      <p:pic>
        <p:nvPicPr>
          <p:cNvPr id="329" name="Rectangle 15" descr=""/>
          <p:cNvPicPr/>
          <p:nvPr/>
        </p:nvPicPr>
        <p:blipFill>
          <a:blip r:embed="rId5"/>
          <a:stretch/>
        </p:blipFill>
        <p:spPr>
          <a:xfrm>
            <a:off x="1384200" y="5834160"/>
            <a:ext cx="987480" cy="822240"/>
          </a:xfrm>
          <a:prstGeom prst="rect">
            <a:avLst/>
          </a:prstGeom>
          <a:ln w="0">
            <a:noFill/>
          </a:ln>
        </p:spPr>
      </p:pic>
      <p:pic>
        <p:nvPicPr>
          <p:cNvPr id="330" name="Rectangle 16" descr=""/>
          <p:cNvPicPr/>
          <p:nvPr/>
        </p:nvPicPr>
        <p:blipFill>
          <a:blip r:embed="rId6"/>
          <a:stretch/>
        </p:blipFill>
        <p:spPr>
          <a:xfrm>
            <a:off x="4584600" y="5834160"/>
            <a:ext cx="957240" cy="822240"/>
          </a:xfrm>
          <a:prstGeom prst="rect">
            <a:avLst/>
          </a:prstGeom>
          <a:ln w="0">
            <a:noFill/>
          </a:ln>
        </p:spPr>
      </p:pic>
      <p:pic>
        <p:nvPicPr>
          <p:cNvPr id="331" name="Rectangle 17" descr=""/>
          <p:cNvPicPr/>
          <p:nvPr/>
        </p:nvPicPr>
        <p:blipFill>
          <a:blip r:embed="rId7"/>
          <a:stretch/>
        </p:blipFill>
        <p:spPr>
          <a:xfrm>
            <a:off x="7480440" y="5602320"/>
            <a:ext cx="931680" cy="8287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7" descr="C:\Documents and Settings\Liz\Local Settings\Temporary Internet Files\Content.IE5\MB5MZXEX\MCj03402640000[1].wmf"/>
          <p:cNvPicPr/>
          <p:nvPr/>
        </p:nvPicPr>
        <p:blipFill>
          <a:blip r:embed="rId8"/>
          <a:stretch/>
        </p:blipFill>
        <p:spPr>
          <a:xfrm>
            <a:off x="1066680" y="4267080"/>
            <a:ext cx="2349720" cy="14036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3" descr="http://www.columbia.edu/itc/chemistry/chem-cf1500/labpix/images/testtubeholder.jpg"/>
          <p:cNvPicPr/>
          <p:nvPr/>
        </p:nvPicPr>
        <p:blipFill>
          <a:blip r:embed="rId9"/>
          <a:stretch/>
        </p:blipFill>
        <p:spPr>
          <a:xfrm rot="20260200">
            <a:off x="6345360" y="1374480"/>
            <a:ext cx="2209680" cy="944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8" descr="alcohol lamp"/>
          <p:cNvPicPr/>
          <p:nvPr/>
        </p:nvPicPr>
        <p:blipFill>
          <a:blip r:embed="rId10"/>
          <a:stretch/>
        </p:blipFill>
        <p:spPr>
          <a:xfrm>
            <a:off x="4267080" y="1066680"/>
            <a:ext cx="1371600" cy="19227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1" descr="C:\Documents and Settings\Liz\Local Settings\Temporary Internet Files\Content.IE5\2YJ6FFAG\MCj03303180000[1].wmf"/>
          <p:cNvPicPr/>
          <p:nvPr/>
        </p:nvPicPr>
        <p:blipFill>
          <a:blip r:embed="rId11"/>
          <a:stretch/>
        </p:blipFill>
        <p:spPr>
          <a:xfrm>
            <a:off x="7086600" y="3619440"/>
            <a:ext cx="1601640" cy="20034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2" descr="C:\Documents and Settings\Liz\Local Settings\Temporary Internet Files\Content.IE5\ASWPFQJ8\MCj03711440000[1].wmf"/>
          <p:cNvPicPr/>
          <p:nvPr/>
        </p:nvPicPr>
        <p:blipFill>
          <a:blip r:embed="rId12"/>
          <a:stretch/>
        </p:blipFill>
        <p:spPr>
          <a:xfrm>
            <a:off x="1371600" y="1371600"/>
            <a:ext cx="174132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12" descr=""/>
          <p:cNvPicPr/>
          <p:nvPr/>
        </p:nvPicPr>
        <p:blipFill>
          <a:blip r:embed="rId1"/>
          <a:stretch/>
        </p:blipFill>
        <p:spPr>
          <a:xfrm>
            <a:off x="5867280" y="4419720"/>
            <a:ext cx="1649520" cy="12016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7" descr="C:\Documents and Settings\Liz\Local Settings\Temporary Internet Files\Content.IE5\MB5MZXEX\MCj03402640000[1].wmf"/>
          <p:cNvPicPr/>
          <p:nvPr/>
        </p:nvPicPr>
        <p:blipFill>
          <a:blip r:embed="rId2"/>
          <a:stretch/>
        </p:blipFill>
        <p:spPr>
          <a:xfrm>
            <a:off x="7862760" y="1066680"/>
            <a:ext cx="1128960" cy="674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3" descr="http://www.columbia.edu/itc/chemistry/chem-cf1500/labpix/images/testtubeholder.jpg"/>
          <p:cNvPicPr/>
          <p:nvPr/>
        </p:nvPicPr>
        <p:blipFill>
          <a:blip r:embed="rId3"/>
          <a:stretch/>
        </p:blipFill>
        <p:spPr>
          <a:xfrm rot="20260200">
            <a:off x="7634160" y="4443480"/>
            <a:ext cx="1446480" cy="617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8" descr="alcohol lamp"/>
          <p:cNvPicPr/>
          <p:nvPr/>
        </p:nvPicPr>
        <p:blipFill>
          <a:blip r:embed="rId4"/>
          <a:stretch/>
        </p:blipFill>
        <p:spPr>
          <a:xfrm>
            <a:off x="7315200" y="2971800"/>
            <a:ext cx="795240" cy="11145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1" descr="C:\Documents and Settings\Liz\Local Settings\Temporary Internet Files\Content.IE5\2YJ6FFAG\MCj03303180000[1].wmf"/>
          <p:cNvPicPr/>
          <p:nvPr/>
        </p:nvPicPr>
        <p:blipFill>
          <a:blip r:embed="rId5"/>
          <a:stretch/>
        </p:blipFill>
        <p:spPr>
          <a:xfrm>
            <a:off x="6400800" y="2819520"/>
            <a:ext cx="990720" cy="12380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2" descr="C:\Documents and Settings\Liz\Local Settings\Temporary Internet Files\Content.IE5\ASWPFQJ8\MCj03711440000[1].wmf"/>
          <p:cNvPicPr/>
          <p:nvPr/>
        </p:nvPicPr>
        <p:blipFill>
          <a:blip r:embed="rId6"/>
          <a:stretch/>
        </p:blipFill>
        <p:spPr>
          <a:xfrm>
            <a:off x="7848720" y="1981080"/>
            <a:ext cx="955440" cy="11113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182160"/>
            <a:ext cx="78674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5a74"/>
                </a:solidFill>
                <a:latin typeface="Gill Sans MT"/>
              </a:rPr>
              <a:t>Briefly describe how you would use these objects to heat the contents of a test tube. </a:t>
            </a:r>
            <a:endParaRPr b="0" lang="en-US" sz="32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44" name="TextBox 20"/>
          <p:cNvSpPr/>
          <p:nvPr/>
        </p:nvSpPr>
        <p:spPr>
          <a:xfrm>
            <a:off x="990720" y="13716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, put on safety goggles and lab apron.  Tie back long hair and check your shirt slee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21"/>
          <p:cNvSpPr/>
          <p:nvPr/>
        </p:nvSpPr>
        <p:spPr>
          <a:xfrm>
            <a:off x="990720" y="2743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, light alcohol burner with m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22"/>
          <p:cNvSpPr/>
          <p:nvPr/>
        </p:nvSpPr>
        <p:spPr>
          <a:xfrm>
            <a:off x="990720" y="41148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, remove test tube from rack and hold test tube with test tube cla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23"/>
          <p:cNvSpPr/>
          <p:nvPr/>
        </p:nvSpPr>
        <p:spPr>
          <a:xfrm>
            <a:off x="990720" y="5562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ly,  when heating test tube, hold with clamp, place bottom of test tube over flame, and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pening away from your 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8" descr="alcohol lamp"/>
          <p:cNvPicPr/>
          <p:nvPr/>
        </p:nvPicPr>
        <p:blipFill>
          <a:blip r:embed="rId7"/>
          <a:stretch/>
        </p:blipFill>
        <p:spPr>
          <a:xfrm>
            <a:off x="8043840" y="5562720"/>
            <a:ext cx="7952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Liz LaRosa</dc:creator>
  <dc:description/>
  <dc:language>en-US</dc:language>
  <cp:lastModifiedBy>Liz</cp:lastModifiedBy>
  <dcterms:modified xsi:type="dcterms:W3CDTF">2008-08-16T04:24:16Z</dcterms:modified>
  <cp:revision>139</cp:revision>
  <dc:subject/>
  <dc:title>Slide 1</dc:title>
</cp:coreProperties>
</file>